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925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5624640" y="0"/>
            <a:ext cx="430200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3251160" y="528120"/>
            <a:ext cx="3424320" cy="256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0" y="6419520"/>
            <a:ext cx="4302000" cy="37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5624640" y="6419520"/>
            <a:ext cx="4302000" cy="37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48340-018A-4E95-ABD6-614D9EDCBD4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9A411-5F88-44BF-8CCD-3E761E9692F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2165A-881C-41AD-9C1A-B15B2355E23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A256A-8F87-47FA-A3CF-D34A19ED819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695C2-72A7-4A71-ACB5-CFC2853E631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89D32-874D-4091-A50D-BF70B047834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3E16C-74AC-4514-981C-C99AAC1B0DF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41526-C8A1-4733-8BAE-C1826FF5439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EBC16-2BC2-4E9C-A438-3D3F1D11E4C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95CA0-9956-405A-ACAC-FF6DDB7A128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D6995-055B-49C1-AA3D-36507C8EA9C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CC974-4D45-48BF-B7C1-2CC18B581D2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2986A-DBAB-46B9-BD25-9C71CB3689E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54AEE-70F3-4388-B5AD-12F4A7FC57E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33E9B-2AFD-407C-924D-83C2174C4E9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34665-9AC1-44D1-88A1-802ED8F8C23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FE03A-E233-4FE1-91A8-1874E8E8231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58A24-DB4D-4D92-92DE-3E5CB3524DD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B1912-01F8-4D2A-989C-B4E909A8BC7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E715A-32C9-4690-9043-4ABEECCB721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4137120"/>
            <a:ext cx="77724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4137120"/>
            <a:ext cx="37926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7040" y="4137120"/>
            <a:ext cx="37926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2502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2360" y="1989000"/>
            <a:ext cx="2502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0000" y="1989000"/>
            <a:ext cx="2502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4137120"/>
            <a:ext cx="2502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2360" y="4137120"/>
            <a:ext cx="2502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0000" y="4137120"/>
            <a:ext cx="2502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989000"/>
            <a:ext cx="777240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4137120"/>
            <a:ext cx="37926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7040" y="4137120"/>
            <a:ext cx="37926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4137120"/>
            <a:ext cx="77724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989000"/>
            <a:ext cx="77724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03280" y="6237360"/>
            <a:ext cx="6300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99"/>
                </a:solidFill>
                <a:latin typeface="Times New Roman"/>
              </a:rPr>
              <a:t>Claudio Vita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2"/>
          <p:cNvSpPr/>
          <p:nvPr/>
        </p:nvSpPr>
        <p:spPr>
          <a:xfrm>
            <a:off x="7093080" y="6400800"/>
            <a:ext cx="205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14"/>
          <p:cNvSpPr/>
          <p:nvPr/>
        </p:nvSpPr>
        <p:spPr>
          <a:xfrm>
            <a:off x="1116000" y="189000"/>
            <a:ext cx="586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8"/>
          <p:cNvSpPr/>
          <p:nvPr/>
        </p:nvSpPr>
        <p:spPr>
          <a:xfrm>
            <a:off x="8001000" y="228600"/>
            <a:ext cx="892080" cy="7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99"/>
                </a:solidFill>
                <a:latin typeface="Times New Roman"/>
              </a:rPr>
              <a:t>Slide </a:t>
            </a:r>
            <a:fld id="{9917D115-42BE-4A49-92C9-F0F7576CBC6D}" type="slidenum">
              <a:rPr b="0" lang="it-IT" sz="10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r>
              <a:rPr b="0" lang="it-IT" sz="1000" spc="-1" strike="noStrike">
                <a:solidFill>
                  <a:srgbClr val="000099"/>
                </a:solidFill>
                <a:latin typeface="Times New Roman"/>
              </a:rPr>
              <a:t>/1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3840" cy="460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it-IT" sz="4000" spc="-1" strike="noStrike">
                <a:solidFill>
                  <a:srgbClr val="000099"/>
                </a:solidFill>
                <a:latin typeface="Times New Roman"/>
              </a:rPr>
              <a:t>La costruzione delle reti:</a:t>
            </a: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it-IT" sz="4000" spc="-1" strike="noStrike">
                <a:solidFill>
                  <a:srgbClr val="000099"/>
                </a:solidFill>
                <a:latin typeface="Times New Roman"/>
              </a:rPr>
              <a:t>il concetto di partenariato e le implicazioni operative</a:t>
            </a:r>
            <a:r>
              <a:rPr b="1" lang="it-IT" sz="4000" spc="-1" strike="noStrike">
                <a:solidFill>
                  <a:srgbClr val="ff0066"/>
                </a:solidFill>
                <a:latin typeface="Comic Sans MS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99"/>
                </a:solidFill>
                <a:latin typeface="Times New Roman"/>
              </a:rPr>
              <a:t>Multiattorialit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7988400" cy="375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99"/>
                </a:solidFill>
                <a:latin typeface="Times New Roman"/>
              </a:rPr>
              <a:t>Il partenariato deve avere una composizione articolata, che comprenda soggetti rappresentativi di diversi contesti istituzionali e portatori di interessi diversific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91856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Alcuni aspetti importan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856908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36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la condivisione degli obiettivi  generali del proget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le attese rispetto al lavoro di ciascun part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i motivi che hanno indotto ciascun partner a partecipare all’iniziativ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gli obiettivi che i partner intendono raggiungere e i risultati da loro auspica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gli strumenti e le competenze che i partner possiedono per raggiungere gli obietti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le problematiche legate all’adesione dei singoli part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9185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Il fattore cultura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360" y="2565000"/>
            <a:ext cx="777240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99"/>
                </a:solidFill>
                <a:latin typeface="Times New Roman"/>
              </a:rPr>
              <a:t>Un ulteriore elemento da non sottovalutare sono gli aspetti culturali e caratteriali del partner, che se non ponderati rischiano di mettere in crisi un partenariato. A ciò di aggiunga la condivisione di una comune lingua di lavo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egnaposto data 4"/>
          <p:cNvSpPr/>
          <p:nvPr/>
        </p:nvSpPr>
        <p:spPr>
          <a:xfrm>
            <a:off x="1403280" y="6237360"/>
            <a:ext cx="63007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Modalità: adesi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311280" cy="41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36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99"/>
                </a:solidFill>
                <a:latin typeface="Times New Roman"/>
              </a:rPr>
              <a:t>Aderire ad un gruppo già costitui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995640" y="1989000"/>
            <a:ext cx="4461120" cy="41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177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Times New Roman"/>
              </a:rPr>
              <a:t>È una scelta che nasce dal desiderio di aderire ad una iniziativa considerata interessante quando non si possiede un’esperienza sufficiente per porsi alla guida di una partnership o quando non si possiede il tempo sufficiente per intessere le relazioni necessarie alla costituzione di un proprio partenari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Modalità: creazi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3640" y="1989000"/>
            <a:ext cx="3168360" cy="41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36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99"/>
                </a:solidFill>
                <a:latin typeface="Times New Roman"/>
              </a:rPr>
              <a:t>Creare un   nuovo gruppo    di part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95640" y="1989000"/>
            <a:ext cx="4461120" cy="41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99"/>
                </a:solidFill>
                <a:latin typeface="Times New Roman"/>
              </a:rPr>
              <a:t>È</a:t>
            </a: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 una scelta che nasce dal desiderio di realizzare un’iniziativa innovativa in cui si crede in modo particolare, presuppone una certa esperienza pregressa e richiede un grosso impegno nella fase di progettazione e </a:t>
            </a:r>
            <a:r>
              <a:rPr b="0" i="1" lang="it-IT" sz="2800" spc="-1" strike="noStrike">
                <a:solidFill>
                  <a:srgbClr val="000099"/>
                </a:solidFill>
                <a:latin typeface="Times New Roman"/>
              </a:rPr>
              <a:t>team building</a:t>
            </a: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9185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Struttura del partenariato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11280" y="2491920"/>
            <a:ext cx="482472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12800" indent="-533520">
              <a:spcBef>
                <a:spcPts val="901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Times New Roman"/>
              </a:rPr>
              <a:t>Rete a stel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2800" indent="-533520">
              <a:spcBef>
                <a:spcPts val="901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Times New Roman"/>
              </a:rPr>
              <a:t>Rete a nod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2800" indent="-533520">
              <a:spcBef>
                <a:spcPts val="901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Times New Roman"/>
              </a:rPr>
              <a:t>Rete ad ho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2800" indent="-533520">
              <a:spcBef>
                <a:spcPts val="901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Times New Roman"/>
              </a:rPr>
              <a:t>Interret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9185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it-IT" sz="4000" spc="-1" strike="noStrike">
                <a:solidFill>
                  <a:srgbClr val="000099"/>
                </a:solidFill>
                <a:latin typeface="Times New Roman"/>
              </a:rPr>
              <a:t>1. Rete a stella </a:t>
            </a:r>
            <a:br>
              <a:rPr sz="18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2565000"/>
            <a:ext cx="777240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36400" indent="-35712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rete di nuova costituzio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presenza di un partner leader con una maggiore esperienza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le comunicazioni passano per il leader che stabilisce le procedure operative, organizza la banca dati centralizzata, assegna i compiti ai singoli partner, risolve eventuali conflitti, e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9185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2. Rete a nodi </a:t>
            </a:r>
            <a:br>
              <a:rPr sz="20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4360" y="2923920"/>
            <a:ext cx="777240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36400" indent="-3571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il processo di socializzazione tra partner è  piuttosto avanza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i partner hanno un ruolo paritario, uguale esperienza e medesime caratteristi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presenza di un leader rappresent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la comunicazione circola in modo inform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9185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3. Rete ad hoc </a:t>
            </a:r>
            <a:br>
              <a:rPr sz="20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4360" y="2923920"/>
            <a:ext cx="777240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36400" indent="-35712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la rete è già matura ed i partner vantano rapporti consolida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non si evidenzia una leader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le comunicazioni fra partner sono diret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9185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4. Interrete 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4360" y="2565360"/>
            <a:ext cx="77724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36400" indent="-35712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modello di rete comples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cooperazione intensiva fra diversi partn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supporto di una struttura di coordinamento, punto di riferimento che garantisce la fluidità del flusso di informazioni fra i vari part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ogni partner è responsabile della propria r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918560" cy="150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Perché fare rete?</a:t>
            </a:r>
            <a:r>
              <a:rPr b="1" lang="it-IT" sz="4400" spc="-1" strike="noStrike">
                <a:solidFill>
                  <a:srgbClr val="000099"/>
                </a:solidFill>
                <a:latin typeface="Comic Sans MS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4360" y="2421000"/>
            <a:ext cx="77724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99"/>
                </a:solidFill>
                <a:latin typeface="Times New Roman"/>
              </a:rPr>
              <a:t>Promuovere la cooperazioni fra organizzazioni che lavorano sugli stessi problemi ma che sono diverse per tipologia, rilevanza, esperienza e nazionalità consente di ottenere risultati con un valore aggiunto maggi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9185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Cosa si intende per…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2421000"/>
            <a:ext cx="77724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Una rete di partner la cui specificità risiede nelle connessioni tra i vari nodi e non nei nodi stes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Il partenariato non si qualifica per i suoi componenti ma per le connessioni che tra questi si possono cre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197000"/>
            <a:ext cx="79185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Obiettivo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2565360"/>
            <a:ext cx="77724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99"/>
                </a:solidFill>
                <a:latin typeface="Times New Roman"/>
              </a:rPr>
              <a:t>Realizzare il progetto non attraverso un semplice trasferimento o scambio di informazioni, ma realizzando in comune prodotti o proces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91856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Risultati della re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Si caratterizzano 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La condivisione del lavoro tra realtà differe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L’eterogeneità dei gruppi operativi che li hanno realizza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L’ampio riconoscimento dei criteri di utilità ed efficacia utilizzati per la realizz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91856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Cosa impl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4360" y="2276280"/>
            <a:ext cx="77724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99"/>
                </a:solidFill>
                <a:latin typeface="Times New Roman"/>
              </a:rPr>
              <a:t>Il partenariato transnazionale comporta un accordo tra soggetti diversi appartenenti ad aree geografiche differenti, finalizzato a raggiungere obiettivi di interesse comu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91856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Come si costituis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4360" y="2276280"/>
            <a:ext cx="77724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99"/>
                </a:solidFill>
                <a:latin typeface="Times New Roman"/>
              </a:rPr>
              <a:t>Ogni partner porta con sé e mette a disposizione dell’iniziativa le proprie risorse, le competenze e le esperienz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856908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Caratteristiche del partenariato </a:t>
            </a:r>
            <a:br>
              <a:rPr sz="4400"/>
            </a:b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nei Programmi comunitar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123640" y="3284280"/>
            <a:ext cx="5256360" cy="28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11360" indent="-532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99"/>
                </a:solidFill>
                <a:latin typeface="Times New Roman"/>
              </a:rPr>
              <a:t>Transnazionalit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1360" indent="-532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99"/>
                </a:solidFill>
                <a:latin typeface="Times New Roman"/>
              </a:rPr>
              <a:t>Multiattorialit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560" y="836640"/>
            <a:ext cx="85690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99"/>
                </a:solidFill>
                <a:latin typeface="Times New Roman"/>
              </a:rPr>
              <a:t>Transnazionalità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4360" y="2421000"/>
            <a:ext cx="777528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99"/>
                </a:solidFill>
                <a:latin typeface="Times New Roman"/>
              </a:rPr>
              <a:t>Il partenariato riunisce persone e/o organismi provenienti da realtà geografiche differen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8T09:09:52Z</dcterms:created>
  <dc:creator>Trani</dc:creator>
  <dc:description/>
  <dc:language>en-US</dc:language>
  <cp:lastModifiedBy>vitali</cp:lastModifiedBy>
  <dcterms:modified xsi:type="dcterms:W3CDTF">2008-09-01T07:01:03Z</dcterms:modified>
  <cp:revision>131</cp:revision>
  <dc:subject/>
  <dc:title>Struttura Piano di monitoraggio</dc:title>
</cp:coreProperties>
</file>